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10F-C66E-40D5-9FC2-5B1535DC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660-65AB-42C7-A673-72EE49821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67C3-9CE5-4110-A759-A7DA97A3F5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913-EF9E-4F95-B670-0FDE1F23A3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ADB3-0968-4DB6-80E6-0C9C84825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F70-95C1-434E-A28C-DF8A331BA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D73-ED1D-4ECE-B4C9-B72E9C4B9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780A-4CBF-4A07-B00A-69D52DDCA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EF36-5AF8-4984-A9AC-BB61870B5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50F6-F8B3-485F-AAB0-E306821E9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159-8E8B-4CFF-87DA-37D28219B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3B2-5F3D-4579-99DC-8D43867EA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D586-19AA-420C-AD95-72B1DBF74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4B5-E509-40FE-A5FF-2D5AD5AE9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F37-18CC-48EC-B2CD-CB1678BFB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3B4-1636-449E-801E-6F112BE9A1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90A1-8D56-495B-996B-1C3CF5DEE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67B-EA66-4819-B1DD-56CF9F172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4A9-704A-43EE-A05F-44DEE78B5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9EFE-3BCD-4B2B-9DE3-10D1A322C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11B7-9C83-4ED5-B4F9-FFBB03251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FC3-122F-40A2-919B-C74D3BCC30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3E3-4FC1-4AA6-9F66-6DC167600D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CB2-5EA4-4486-A9BB-861D89C2D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77FF-F127-44D8-B0A3-919E43337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F52-DBFF-42C4-BF1C-046269B6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D37-2D22-487B-AFCA-3BFD9769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7E0-57B3-4D8B-BF0A-3F3FA48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B50-7086-4987-B59A-C368DC33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AB5E-938A-4C14-9071-34C63AEB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346-630C-4411-B18F-032017A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B8F-7D38-4B76-B7CC-04278A3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CC8-2DAE-43E1-AFCD-6949DDD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D42D-D9CA-4884-ADF9-245C8040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BECB-E004-43C2-9829-4B71535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F207-284F-4EBC-9856-60356F6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1F5-9D04-41F5-B469-ECF176B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00EE-546E-4E0C-8E5A-160F451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DA1-BBF8-458F-9740-D5E6D60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B7DE-40E5-470D-92C0-4F112D3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F512-019A-40E7-80FB-AD8D30CA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B58C-343E-47B6-9651-8531D86F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34B1-3ABC-49BF-8A46-B0FAA21A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C30A-14A0-4030-899D-6CF290E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DBB4-B174-4FEE-9184-8A078FF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E262-E41F-445F-A099-3DBC472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A0C6-DA7E-4002-A329-9A56BAE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5B2-D120-4FA7-AD4B-115032DD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33C6-8220-44FA-AAE9-E5B36B2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D6D0-0D23-42D8-BCC1-4F2707C3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09CC-CAA2-4E02-9E65-5F2935A0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0A21-C910-47BC-9776-B56DC92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5557-94BF-4774-9B85-7A9C1D5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2E78-4F95-4492-A0C2-17136739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FBEC-BBCE-413E-893D-B6421E4E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95C-F2E0-4D8A-A19D-1EE0094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1BA-75A9-4506-AE6C-1B61558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F12-5399-412D-949F-5380E0F4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001-98CC-45DA-A914-F8FB0C8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99C-46C3-4A23-97A6-DF70C9D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118-21AE-421D-BC1F-69CAE34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eat2"/>
          <p:cNvPicPr/>
          <p:nvPr/>
        </p:nvPicPr>
        <p:blipFill>
          <a:blip r:embed="rId3"/>
          <a:stretch/>
        </p:blipFill>
        <p:spPr>
          <a:xfrm>
            <a:off x="76212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48A-6F83-4FF7-AFE3-BBCF37CF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7FF-EAB3-40D1-BA21-EFBD2839F83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ECB7-20AF-4735-BFA2-EB165C00862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ir Pollution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hapter 2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duces visual ran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mages pl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t so hot for animals/people eith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grade soils and wa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ynergistic effect of many pollut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 + 1 = way more than 2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lfates + nitrates do more damage toge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itrogen oxide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(NO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rom burning biomass including fossil fue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Oxides of Nitrogen Chemis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ffec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ame as acid rain plu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essive N levels in soi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ation of ozo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itrogen dioxide is an irrita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228240"/>
            <a:ext cx="80802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Hydrocarb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80% are from natural sourc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rest from fossil fuels, cars…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ly generated from incomplete combustion of fuels or combustion byproduc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ry Carcinogenic and highly tox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OCs (Volatile Organic Compound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nze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CBs  (Polychlorinated Biphenal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oxi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Carbon monoxid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 high toxicity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90% from natural sources: ie volcano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uman sources = fuel and biomass bur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ed from combustion of fue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ast about a month, then oxidizes into carbon dioxi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talytic converters on cars reduce th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Asbes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naturally occurring minera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mined and used in many building materials in the pas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Lea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primary source was leaded gasolin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also from mining, smelting, industr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Secondary Polluta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4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Photochemical oxida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oz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internal combustion engines:  cars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d power plant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nds to be worse in summer (high sunlight) and in ‘still’ air loaded with hydrocarbons and NOs.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s a while to form, so can build up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downwin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f pollution cen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mmertime Smog” can last days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4937040" y="590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Photochemical Pollution</a:t>
            </a:r>
            <a:br>
              <a:rPr sz="4000"/>
            </a:b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(Ozone Production Chemistry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Why ozone can be worse in rural areas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Health effects of oz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rreparable lung dam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oss of lung capac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ggravates asthma and chronic disea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ynergistic effect : ozone and smok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resses immune syst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re they all man caused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!!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are some natural source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ctually, natural emissions are greater than human ones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With the exception of sulfur and nitrogen oxide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uman pollutants are more concentrated in urban are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ir Quality Index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Q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lls how clean or polluted an area’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utdoor air i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lculated for 5 major pollut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, SO2, NO2, PM, O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nge = 0 to 500  (100 = national standard for acceptable air qualit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ove 100 = ba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Meteorological Influen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 make magnify air pollution proble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version layer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Picture 7" descr="INVERSION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L.A. Smog (photochemical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own ai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ated to car use: cars releas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x, CO, VOCs (ie: hydrocarbons), particul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rning, traffic = NO released, oxidizes to N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n atm.   Reacts with VOCs and sunlight to produce ozone. Ozone oxidizes NO to make more N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…process is cycli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London Smo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ray, industrial smo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oduced by burning co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lfur dioxides combine with atm. particul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cid Ra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ccurs downwind of areas with S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N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emissions (ie:  coal burning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 scale is logarithmic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llutants react in atm to form sulfuric and nitric  aci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posited as rain, fog, snow or dry deposi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ects plants and aquatic lif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mages buildings and statu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st Clean Air Act 1970 / 199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Large particulate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settling chambers and cover exposed sites (fugitive sources), scrubbers, air filters, electrostatic precipitato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CO, NOx, Hydrocarbons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Autos:  catalytic converter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Acid rain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use low sulfur coal or clean it by washing (expensive) or scrubbing.  Also conserve energy and/or use alternative energy sourc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are some human source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are stationary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ike point source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ugitive sourc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area sourc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159984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are mob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159984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9" descr="ozone-pollution-mobile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Primary Polluta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Particulat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small mixed particles in ai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ltrafine = smaller than .1 micron (virus sized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urc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Picture 7" descr="partic1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5638680" y="1371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uman hair is about 100 mic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5" descr="P88-3e(1)"/>
          <p:cNvPicPr/>
          <p:nvPr/>
        </p:nvPicPr>
        <p:blipFill>
          <a:blip r:embed="rId1"/>
          <a:stretch/>
        </p:blipFill>
        <p:spPr>
          <a:xfrm>
            <a:off x="3124080" y="1371600"/>
            <a:ext cx="5715000" cy="5429160"/>
          </a:xfrm>
          <a:prstGeom prst="rect">
            <a:avLst/>
          </a:prstGeom>
          <a:ln w="9360">
            <a:solidFill>
              <a:srgbClr val="f2dffd"/>
            </a:solidFill>
            <a:miter/>
          </a:ln>
        </p:spPr>
      </p:pic>
      <p:sp>
        <p:nvSpPr>
          <p:cNvPr id="236" name="Text Box 6"/>
          <p:cNvSpPr/>
          <p:nvPr/>
        </p:nvSpPr>
        <p:spPr>
          <a:xfrm>
            <a:off x="762120" y="76212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arg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2514600" y="1676520"/>
            <a:ext cx="327672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914400" y="3124080"/>
            <a:ext cx="2057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mall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pirator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2666880" y="3581280"/>
            <a:ext cx="3124440" cy="1905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457200" y="380880"/>
            <a:ext cx="70866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ulfur Ox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om fossil fuel bur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so2trend"/>
          <p:cNvPicPr/>
          <p:nvPr/>
        </p:nvPicPr>
        <p:blipFill>
          <a:blip r:embed="rId1"/>
          <a:stretch/>
        </p:blipFill>
        <p:spPr>
          <a:xfrm>
            <a:off x="2286000" y="3429000"/>
            <a:ext cx="6400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cid Rain Chemist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ffec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idification of water in lakes and soi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iratory irrit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osion of limestone structur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mage to plant foli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10:32Z</dcterms:created>
  <dc:creator>tosborne</dc:creator>
  <dc:description/>
  <dc:language>en-US</dc:language>
  <cp:lastModifiedBy>tosborne</cp:lastModifiedBy>
  <dcterms:modified xsi:type="dcterms:W3CDTF">2012-03-19T23:41:11Z</dcterms:modified>
  <cp:revision>45</cp:revision>
  <dc:subject/>
  <dc:title>Slide 1</dc:title>
</cp:coreProperties>
</file>